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2801-4171-40BD-9919-06105A3EB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7A1-426C-4E0C-BF08-17EB0174D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biopic/yelcac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4A8B-3C06-4C7A-90A3-2CB0B992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FDE-5B52-43D9-AD37-FAFB727F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7CC0-B56D-4694-92D1-42BD80E83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EEF1-00B0-411C-A35D-A9D8D197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683B-5A83-4A0A-B85E-02169DB1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07F1-6EE2-4B81-9327-5ACD959E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7997-CCF9-4DDB-A048-3AEFA1B3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94FB-95AC-412D-91B0-D80381CC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BEAD-0EE1-417D-A0EF-8D3363F6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5EDD-E1EC-4898-8AE8-22307E811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756-29CE-470D-8C5B-076EDBEA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08F6-E521-4283-85E7-34D2E5F72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713F-CFB0-4069-8DD0-8F74A7FE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5E7F-03A9-489E-8A70-30DEA296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02C-28DC-44B9-A31E-8D1202E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01C-97EB-4781-BBEF-45BA740D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739-2B73-4C56-851A-52D4F8B0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07F-E229-4C48-BACC-CF8AF12F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C03-9C31-4342-A5FD-AF6D32F2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7CC-234D-4DF1-923B-CED24D7C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E42-A1E1-407D-A49D-84EDD47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702-589D-4AD9-996F-A0C7E111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3D1-B54A-4FA4-9007-B2384B9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2B6-36BD-4505-A556-92133B3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3F1-5B11-473B-8DC8-8EBB44AC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680-D2DF-4BE6-A2D6-C9EF938C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9F8-E2B0-4B95-B91E-B5144DFD7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lc4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62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orghum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orn ears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ugar Cane Field 1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PEARL-mILLET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alcam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ade_plant01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rickly-pear-cactus-1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neapple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ram's_head_orchid_plant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arbon_emmission_co2_smoke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K+_opne&amp;closed-LG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h20f3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Simplified_photorespiration_diagram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5-10-27T01:15:34Z</dcterms:modified>
  <cp:revision>127</cp:revision>
  <dc:subject/>
  <dc:title>Photosynthesis</dc:title>
</cp:coreProperties>
</file>